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CEBB-A967-46B8-B5C0-BC0D909F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CC70-10F6-4362-8895-264C0EFD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468BC-92DA-4041-A4A7-AD9ECF7F5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26AB4-0A91-49D4-BCED-E8297D79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FE3DA-FE9C-45BB-8E8F-D5E65EB28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B843C-A928-4FE8-9996-00504F4DA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CEE5-CA88-45D3-A96F-0CF886CE1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439C8-83D5-49E9-AF0D-58F68C1CF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4A4DC-0C35-4BC9-BA27-73E36297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F3BBA-449D-4017-96E3-4F676FF82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D1EB-9679-4EE7-9495-F3E9D7124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6078F-D17D-49ED-9E1C-A6D3F4677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EE11C-969F-4822-AB53-E6A96DB4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97FE-41E0-4A3B-8A2F-DCAA2FCC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7C94C-35B8-4601-A860-216BEC3E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60D14-DDEB-4E1E-A152-763A9D772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AF43D-09B2-48C8-9043-CD937A65D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38E6-1EBD-4D75-95EA-22E344B1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73DB-2404-4E93-BA04-A6658988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90369-453F-461D-9601-3B445E83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20D7-805A-41A3-86F2-1D4B5EA2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ADC2C-E505-4302-81F8-AD8DC574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D6B8-7A26-474F-A9DD-467BECBA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BC59-41C1-4C71-BFD3-E5DDC2DB3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5ED7-A97D-488F-833F-CC7981C32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3C31-DC55-49F2-B5F2-A58307C1D7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called Deir el-Bahri, Thebes. She built this temple west of the Nile and near the river of Thebes. There are three courts, the upper court, the middle court, and the lower court. The lower court was once planted with trees and vines. The ramps lead to the higher levels. In the middle court, the birth colonnade and punt colonnade are on either sides of the ramp. On the other side of the middle court with the birth colonnade, is anubis Chapel. Hathor Chapel is on the left side of the Upper court. On the upper court there a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 True or false, Thutmose was a merciless ruler.</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7T13:45:23Z</dcterms:modified>
  <cp:revision>24</cp:revision>
  <dc:subject/>
  <dc:title>Rule During the New Kingdom</dc:title>
</cp:coreProperties>
</file>